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4.jpeg" ContentType="image/jpeg"/>
  <Override PartName="/ppt/media/image10.wmf" ContentType="image/x-wmf"/>
  <Override PartName="/ppt/media/image25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7.jpeg" ContentType="image/jpeg"/>
  <Override PartName="/ppt/media/image9.gif" ContentType="image/gif"/>
  <Override PartName="/ppt/media/image11.wmf" ContentType="image/x-wmf"/>
  <Override PartName="/ppt/media/image5.png" ContentType="image/png"/>
  <Override PartName="/ppt/media/image13.wmf" ContentType="image/x-wmf"/>
  <Override PartName="/ppt/media/image31.png" ContentType="image/png"/>
  <Override PartName="/ppt/media/image14.wmf" ContentType="image/x-wmf"/>
  <Override PartName="/ppt/media/image29.png" ContentType="image/png"/>
  <Override PartName="/ppt/media/image6.jpeg" ContentType="image/jpeg"/>
  <Override PartName="/ppt/media/image30.png" ContentType="image/png"/>
  <Override PartName="/ppt/media/image28.wmf" ContentType="image/x-wmf"/>
  <Override PartName="/ppt/media/image3.jpeg" ContentType="image/jpeg"/>
  <Override PartName="/ppt/media/image23.jpeg" ContentType="image/jpeg"/>
  <Override PartName="/ppt/media/image17.wmf" ContentType="image/x-wmf"/>
  <Override PartName="/ppt/media/image20.png" ContentType="image/png"/>
  <Override PartName="/ppt/media/image2.jpeg" ContentType="image/jpeg"/>
  <Override PartName="/ppt/media/image18.wmf" ContentType="image/x-wmf"/>
  <Override PartName="/ppt/media/image19.wmf" ContentType="image/x-wmf"/>
  <Override PartName="/ppt/media/image21.png" ContentType="image/png"/>
  <Override PartName="/ppt/media/image2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9D37-1262-414C-BD1C-12F27F20B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DE08-AD59-4789-A576-1B131C285F5C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9076-4612-4936-A1B9-9E99494FA8AA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780B-0D22-4B8F-9A60-36BB976973E1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60D5-974A-48D9-A63A-27DCF5F5E0D7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BEF2-25BB-4FC9-AE68-9E7B4F76A56F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7732-5DD2-457C-B95F-17D225592872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BEB3-480F-43AC-B643-B22D656B34EA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0712-04C9-4950-BC38-A206C5AC900E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8FAD-673E-4945-9064-CBDB61001062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D347-CAD4-4C42-856F-BEC1C23D53A9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DD27-41F2-4464-AB5D-07FC4AE28D42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705C-6AD5-4FC2-8B8D-D0F588D31919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2E83-05F1-4FBA-B21C-1C3A92641A30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C642-3A67-4161-AF86-F8A9CA9852BE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7CA6-4267-40A4-8522-BA05E90A125B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251D-CAAA-4814-9D74-F77D14113BE9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93903-56E0-4E62-9B46-C0FD4101E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1E1A6-22F0-4AFC-A818-6C9A4F68204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19CBF7-4170-4E00-996D-B685711B6B0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F46478-D714-4AAD-A095-529E94D36FE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426425-E3BF-49C7-B4EC-59135674706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720CBB-3CFA-48F5-94C0-63C29AD57F5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4BA2FB-5195-4BC6-997C-DAAB9B8310C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B374AB-6A98-453B-9C66-E3081468005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3586D1-FD4F-4C2A-82DB-ECF387A6FAE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7B9F0B-77A8-41A2-88E7-809558A9430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BD3D52-F819-4062-B6D9-3453E6D29FF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A2545-5BB7-4FD1-936F-95A6F38AB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4DDAC-A2C8-4860-BAAA-E3999F673C9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881D3-A46B-449D-8F65-5028A9391C4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3F7EF-93C7-4F87-AFE0-288EA89A681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DD558-9FF3-4639-8000-249D9CDF707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3135D-349A-4F08-9651-4192455FD9F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B3367-AFF0-48FF-B0A7-5BA09507769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E3646-EDA5-4D7E-B4C5-18A8F0ED10E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0DC15-15A8-4C27-96A6-6C044BE76CB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D8CFE-80FB-4626-8620-295DABE2693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35B88-E024-4A73-A721-016CE628CA4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B1D79-6761-47D7-9717-31E74E056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3E606-8538-4866-8339-E82B6BBD90B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A8EE1-E78B-4963-B1B2-25DBAFE80D1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950305-F32A-4AEF-A7A6-3C578CE87A1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AD3C2C-F5C4-4832-AE3C-AF86CD5AB15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A70C1E-5AE9-4353-93F3-BA7F4FFB757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0394E2-569A-49E4-AE27-5FDCAE1EA26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9B5694-93D1-40AE-8725-08E361F03F0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2F59B3-211E-408C-9C53-33732AFA033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3C7F50-32C3-4B4E-9AFC-855E1EA7932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7850EE-5E18-4B80-917D-073D4D17700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4039A8-5F95-4CE7-BE2D-4B8317C18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569BC-2BC9-4014-98B3-645946D2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0E9310-4023-4656-8ABB-16B8DE2FBA8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E05B48-5006-4328-9AEF-E5765D8CEC3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8C538E-1427-4456-8509-EE478962114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4E654-D9E1-4DCD-8F3F-B110C17C04B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77542A-E8D8-4DFA-90D9-5B4BA06B068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48075-C85B-4D53-99B4-D2ACC6ACE63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3BA4E-1610-45F9-A535-C98FC5A57C2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41171-5826-410F-A0DB-D538DF4E5B9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55EA3-0F81-497A-A156-B379E34AAB6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24837-3988-4B67-922A-5D3D8E207D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32DE6-FAE0-4315-B336-DD6B68D2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61057-DD1C-46DB-9485-6A757250F4F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074D6-0A26-4825-AA54-47BFFF6B33B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D5959-18B9-41B4-9E55-F4FE6B45414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EEEB22-82A0-4706-B305-B9127BA213F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C44D0-444C-4ADB-84E7-71C804FE72C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789D2-82FB-4331-9E45-AC508FA3B6A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90127-4517-4E32-B326-BE8C5EA9342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53337-F963-488A-AD81-A97FCE18FA9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F1CAF-03A0-4AF2-9F46-7AF3005B7AE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5ADD4-4104-49E1-AA3D-DD650E0AA8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15B22-2CE9-4D50-9DDC-DCFDB0F0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87129-016A-4D60-A5C1-6F326FE6505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87A34-CC55-47BE-B167-57F58462236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DFA06-DCB7-4CCA-B04F-34D9D612264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22C67-36DA-4B8D-8685-0D8C4D011F9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8A640-2127-475F-8373-2AA60B53EF4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31180-AF16-43B2-BDEE-142162DB635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1BB34-EDFA-40B7-84CB-5E173C066F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FDA81-E63B-487D-8DFC-563A182A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B2279-0FC0-4A9A-93ED-C79FDCF3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E17C7-29BD-48C7-AA1D-B2A5B618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E18B9-6F65-43D7-9EEF-A3969D59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DEE3C-C426-4E20-9FB3-0C1237D56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4A39B-6A03-4F93-8F39-685A48AC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B4FEB-326D-4904-B88A-91B36EBD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7A6FC-809C-4D35-9283-671E5EBB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4EC51-6978-4D9F-8DCC-58C574AE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582F5-61B4-4D74-B8C9-B7387292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41DC31-6EF0-4CD8-A649-454CA0C3D6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5A8F47-6F67-43DE-BEDD-56205AC432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18A541-64CE-4497-A9F4-22405ECAEA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0E701A-12FC-4EC2-AAF8-C3E6544651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F211D0-2775-46D7-B6B2-9DB8C7E8D7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9E692-924E-4D0A-9CE8-2824282BE3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F25637-A521-4109-94A4-77DFD89DE9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D967B9-53A3-41A2-9378-4F444876D9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31BC4F-EBF9-4B58-B0A0-C7B45DCFEE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C0F91D-0DAD-49AC-9AEB-ED56118FEB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1A7B56-E081-4AC1-AD35-F6CC818865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9039F0-7911-4CA2-9F5B-BD2E9F3BC4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65258C-EB45-42F6-979C-249334E597E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AFEAE-9AD3-43E3-B470-D85BB82ACB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34A83-3378-4F61-A2AA-2558775187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75637-8500-411D-A333-7BED49AF3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D61EC-DF66-4C5B-AE00-FE546438BF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B08F5-C665-408B-B5EE-B15DEA01CF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E33B5-2F44-4C28-855D-99A40CCD43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3240E-4A1A-4086-80F0-4483585618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459A2-5BFE-436E-AB21-6D6C2A7BB32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590E4-90D8-42A0-8A18-BEACD31A81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B34AC-AC48-435D-A155-D37E1E274A8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93F7F-E40F-40CB-8323-EC0B4A6DFD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CD509-151B-43F7-99EA-0B65DFABDF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0E42E-2593-44EE-A9F3-7715C13B03D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36273B-CF6F-4B2C-BE8B-D1CBBA076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7F5FF-D031-4798-B4A6-E1B702ED10B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A8F3A6-4C3A-4BEA-A806-7057725D729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FB8DEB-CE3F-4F1F-AF8D-162D126D29A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C86AFD-67BB-4A24-8596-A8CBA0738D2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38BB91-6422-478D-818D-C2F4A8987E6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943A12-E741-4DA7-9CEA-244A011DF67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8EBACD-C857-4C8C-A81E-C4BC48776CE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1C121C-4B06-4838-BE2F-5D699E64BE4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F34BDF-393D-4576-95C6-D82038D2532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B95161-1EFB-4C1B-B0AC-BC47C8C0E8A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94EC91-04F4-4982-A6D8-6D37EE863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EDE31-E90A-4007-BBE4-963B03BD3CB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75AF90-1CA9-4363-B7CA-C11470FD40E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3497CC-6B91-4C04-888D-1E79DA35233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5C44B7-2D41-404B-A350-F2EAD810D1B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B6B226-19CB-4A33-8AC5-E811595ADF5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4E2961-E223-44E7-971C-B67B51F4AE8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E4ABD1-8666-43FD-A543-5C2F2FDF2A5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90BEC7-F548-4A26-BB8B-40420051C80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0C4A15-280D-4C24-9037-EBE80E2F10A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5B077B-9B10-428A-94E7-62C6949D1D9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96B2B2-A06F-4B1A-A349-D26F3A336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55C51-D5C1-4982-8C7A-ABDAE8387E7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F6CC61-07A5-4A63-A73E-396E0309D10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A1686E-09F4-4A4B-BE90-F62F57179B0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A78D94-8652-4A1C-85D0-11279775557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3E6FE-9A0B-4016-85D1-EF27A4013A1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E7E41-5A89-44B7-860E-63EC8245142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4959B-6C2E-4467-B74E-EE27A9F3B1F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60B5C-4EEA-4384-B70A-097B32251B3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349D3-A09A-4A2B-A0BA-5D335F7637B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07978-F6CD-4C84-AC53-5753ECF9D4E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48FF1-7E5A-4161-8562-3E99A1259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F365-3255-4367-A02D-0ED44F16FB7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490A7-20EF-465D-9A2E-D4CC23EA92D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6EEF6-F14F-49FC-B51A-69259FD4AC3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4457A-3801-4A55-9F76-28F8A85DB63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D62CB-D9DE-4B42-8C65-4DD05D4B9F0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8A32B-EDA8-4052-A9DA-13D0B5576AF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91FB97-1597-4340-9796-A17DCBFAB5A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74E8D6-EAA6-481F-BEBE-C35F067D5B3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23DCE8-68C3-453C-9453-256E30DA874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EB09E0-EBF5-4AB3-B246-023D86D34AE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DD07AA-DB16-436B-827A-BA1ACF78B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ACC7D-FC31-4471-9BC6-66614A95A4E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8950EB-17C1-4C51-A999-5DCDF28F17B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33C829-3A0A-4285-9D3F-5BE3B979DAC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494C53-0C26-405B-B6FA-F6E0F337CCE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B08AD1-944D-4FA6-B4E1-8DE182CF37F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633D3C-BE35-4042-82F0-351F2E14863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079A0E-A34A-4BAC-A558-1B4C875EB18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BA14DC-FF2D-404A-9CF9-FF0E46D24F8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D7CCFE-1525-4749-85F0-6EC24C6619A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D3B47D-4C6E-4255-9167-123385FC089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8815F4-78ED-41D3-920F-05490E163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C454BB2A-9ECB-4455-8A05-7FCF1C5D6A9D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054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055" descr="line"/>
          <p:cNvPicPr/>
          <p:nvPr/>
        </p:nvPicPr>
        <p:blipFill>
          <a:blip r:embed="rId3"/>
          <a:stretch/>
        </p:blipFill>
        <p:spPr>
          <a:xfrm>
            <a:off x="685800" y="16668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054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055" descr="line"/>
          <p:cNvPicPr/>
          <p:nvPr/>
        </p:nvPicPr>
        <p:blipFill>
          <a:blip r:embed="rId3"/>
          <a:stretch/>
        </p:blipFill>
        <p:spPr>
          <a:xfrm>
            <a:off x="685800" y="16668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ftr" idx="20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1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DD80CEC1-FD3D-4CC0-A7C8-460E48434F6C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054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055" descr="line"/>
          <p:cNvPicPr/>
          <p:nvPr/>
        </p:nvPicPr>
        <p:blipFill>
          <a:blip r:embed="rId3"/>
          <a:stretch/>
        </p:blipFill>
        <p:spPr>
          <a:xfrm>
            <a:off x="685800" y="16668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22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2B8BC70C-5344-40DF-AE51-E07ED4F4B5B8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054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055" descr="line"/>
          <p:cNvPicPr/>
          <p:nvPr/>
        </p:nvPicPr>
        <p:blipFill>
          <a:blip r:embed="rId3"/>
          <a:stretch/>
        </p:blipFill>
        <p:spPr>
          <a:xfrm>
            <a:off x="685800" y="16668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24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25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617CB5E7-BDF1-4BC5-A62C-20728E0D80F6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054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055" descr="line"/>
          <p:cNvPicPr/>
          <p:nvPr/>
        </p:nvPicPr>
        <p:blipFill>
          <a:blip r:embed="rId3"/>
          <a:stretch/>
        </p:blipFill>
        <p:spPr>
          <a:xfrm>
            <a:off x="685800" y="16668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26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27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078C40D5-24AC-4475-B18A-C697E1336244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1847-D02D-4295-86C1-5F5C0254FA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line"/>
          <p:cNvPicPr/>
          <p:nvPr/>
        </p:nvPicPr>
        <p:blipFill>
          <a:blip r:embed="rId3"/>
          <a:stretch/>
        </p:blipFill>
        <p:spPr>
          <a:xfrm>
            <a:off x="304920" y="2819520"/>
            <a:ext cx="8458200" cy="95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6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054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55" descr="line"/>
          <p:cNvPicPr/>
          <p:nvPr/>
        </p:nvPicPr>
        <p:blipFill>
          <a:blip r:embed="rId3"/>
          <a:stretch/>
        </p:blipFill>
        <p:spPr>
          <a:xfrm>
            <a:off x="685800" y="16668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8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9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5CB7AFFA-EC1A-472D-9BFB-B260DD9EB971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054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55" descr="line"/>
          <p:cNvPicPr/>
          <p:nvPr/>
        </p:nvPicPr>
        <p:blipFill>
          <a:blip r:embed="rId3"/>
          <a:stretch/>
        </p:blipFill>
        <p:spPr>
          <a:xfrm>
            <a:off x="685800" y="16668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0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1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13879B8E-5F55-4EF3-A009-74D1EC0BF9A9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054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055" descr="line"/>
          <p:cNvPicPr/>
          <p:nvPr/>
        </p:nvPicPr>
        <p:blipFill>
          <a:blip r:embed="rId3"/>
          <a:stretch/>
        </p:blipFill>
        <p:spPr>
          <a:xfrm>
            <a:off x="685800" y="16668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12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17F81A32-39DD-40DB-8F39-4E3AE95A3227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054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055" descr="line"/>
          <p:cNvPicPr/>
          <p:nvPr/>
        </p:nvPicPr>
        <p:blipFill>
          <a:blip r:embed="rId3"/>
          <a:stretch/>
        </p:blipFill>
        <p:spPr>
          <a:xfrm>
            <a:off x="685800" y="16668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4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5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5AC43D80-9669-43DF-BBB5-9CBCACC792C5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054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055" descr="line"/>
          <p:cNvPicPr/>
          <p:nvPr/>
        </p:nvPicPr>
        <p:blipFill>
          <a:blip r:embed="rId3"/>
          <a:stretch/>
        </p:blipFill>
        <p:spPr>
          <a:xfrm>
            <a:off x="685800" y="16668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6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3A457E0D-D860-4FD6-AEF6-6169AFEFDC50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054" descr="Untitled-1 copy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055" descr="line"/>
          <p:cNvPicPr/>
          <p:nvPr/>
        </p:nvPicPr>
        <p:blipFill>
          <a:blip r:embed="rId3"/>
          <a:stretch/>
        </p:blipFill>
        <p:spPr>
          <a:xfrm>
            <a:off x="685800" y="16668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18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19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49C82B6A-7169-4431-8DD4-823A0F5C61E9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rc.center@gm.com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4"/>
          <p:cNvSpPr/>
          <p:nvPr/>
        </p:nvSpPr>
        <p:spPr>
          <a:xfrm>
            <a:off x="1905120" y="57150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rebuchet MS"/>
              </a:rPr>
              <a:t>2009 </a:t>
            </a:r>
            <a:r>
              <a:rPr b="1" i="1" lang="en-US" sz="1800" spc="-1" strike="noStrike">
                <a:solidFill>
                  <a:srgbClr val="ff3399"/>
                </a:solidFill>
                <a:latin typeface="Trebuchet MS"/>
              </a:rPr>
              <a:t>FIRST</a:t>
            </a:r>
            <a:r>
              <a:rPr b="1" lang="en-US" sz="1800" spc="-1" strike="noStrike">
                <a:solidFill>
                  <a:srgbClr val="ff3399"/>
                </a:solidFill>
                <a:latin typeface="Trebuchet MS"/>
              </a:rPr>
              <a:t> Robotics Conference – Atlanta, GA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bf"/>
                </a:solidFill>
                <a:latin typeface="Trebuchet MS"/>
              </a:rPr>
              <a:t>PI Closed-Loop Control</a:t>
            </a:r>
            <a:r>
              <a:rPr b="1" lang="en-US" sz="3400" spc="-1" strike="noStrike">
                <a:solidFill>
                  <a:srgbClr val="7030a0"/>
                </a:solidFill>
                <a:latin typeface="Trebuchet MS"/>
              </a:rPr>
              <a:t>, using </a:t>
            </a:r>
            <a:r>
              <a:rPr b="1" lang="en-US" sz="3400" spc="-1" strike="noStrike">
                <a:solidFill>
                  <a:srgbClr val="00b050"/>
                </a:solidFill>
                <a:latin typeface="Trebuchet MS"/>
              </a:rPr>
              <a:t>VEX</a:t>
            </a:r>
            <a:r>
              <a:rPr b="1" lang="en-US" sz="3400" spc="-1" strike="noStrike">
                <a:solidFill>
                  <a:srgbClr val="7030a0"/>
                </a:solidFill>
                <a:latin typeface="Trebuchet MS"/>
              </a:rPr>
              <a:t> and </a:t>
            </a:r>
            <a:r>
              <a:rPr b="1" lang="en-US" sz="3400" spc="-1" strike="noStrike">
                <a:solidFill>
                  <a:srgbClr val="d60093"/>
                </a:solidFill>
                <a:latin typeface="Trebuchet MS"/>
              </a:rPr>
              <a:t>Easy-C Pro</a:t>
            </a:r>
            <a:r>
              <a:rPr b="1" lang="en-US" sz="3400" spc="-1" strike="noStrike">
                <a:solidFill>
                  <a:srgbClr val="7030a0"/>
                </a:solidFill>
                <a:latin typeface="Trebuchet MS"/>
              </a:rPr>
              <a:t>, for high school students and coaches 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142640" y="3124080"/>
            <a:ext cx="6629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rebuchet MS"/>
              </a:rPr>
              <a:t>Presented by: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rebuchet MS"/>
              </a:rPr>
              <a:t>Marc Center, GM Hybrid Powertrain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99"/>
                </a:solidFill>
                <a:latin typeface="Trebuchet MS"/>
              </a:rPr>
              <a:t>2009 Chief Delphi FRC 47 Engineering Mentor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33cc"/>
                </a:solidFill>
                <a:uFillTx/>
                <a:latin typeface="Trebuchet MS"/>
                <a:hlinkClick r:id="rId1"/>
              </a:rPr>
              <a:t>marc.center@gm.com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500" spc="-1" strike="noStrike">
                <a:solidFill>
                  <a:srgbClr val="009900"/>
                </a:solidFill>
                <a:latin typeface="Trebuchet MS"/>
              </a:rPr>
              <a:t>248-255-7377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9900"/>
                </a:solidFill>
                <a:latin typeface="Trebuchet MS"/>
              </a:rPr>
              <a:t>Version 6 – April 8, 2009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ounded Rectangle 67"/>
          <p:cNvSpPr/>
          <p:nvPr/>
        </p:nvSpPr>
        <p:spPr>
          <a:xfrm>
            <a:off x="457200" y="1981080"/>
            <a:ext cx="8077320" cy="4343400"/>
          </a:xfrm>
          <a:prstGeom prst="roundRect">
            <a:avLst>
              <a:gd name="adj" fmla="val 16667"/>
            </a:avLst>
          </a:prstGeom>
          <a:solidFill>
            <a:srgbClr val="a3e0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Rounded Rectangle 68"/>
          <p:cNvSpPr/>
          <p:nvPr/>
        </p:nvSpPr>
        <p:spPr>
          <a:xfrm>
            <a:off x="762120" y="1828800"/>
            <a:ext cx="6019560" cy="4648320"/>
          </a:xfrm>
          <a:prstGeom prst="roundRect">
            <a:avLst>
              <a:gd name="adj" fmla="val 16667"/>
            </a:avLst>
          </a:prstGeom>
          <a:solidFill>
            <a:srgbClr val="ff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Footer Placeholder 3"/>
          <p:cNvSpPr/>
          <p:nvPr/>
        </p:nvSpPr>
        <p:spPr>
          <a:xfrm>
            <a:off x="45720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7030a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7030a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rebuchet MS"/>
              </a:rPr>
              <a:t>1C    Robot Platform – Vex Robo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9" name="Straight Connector 19"/>
          <p:cNvSpPr/>
          <p:nvPr/>
        </p:nvSpPr>
        <p:spPr>
          <a:xfrm flipV="1">
            <a:off x="8627400" y="4098960"/>
            <a:ext cx="515880" cy="596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Rounded Rectangle 42"/>
          <p:cNvSpPr/>
          <p:nvPr/>
        </p:nvSpPr>
        <p:spPr>
          <a:xfrm>
            <a:off x="609480" y="1981080"/>
            <a:ext cx="4267440" cy="4343400"/>
          </a:xfrm>
          <a:custGeom>
            <a:avLst/>
            <a:gdLst>
              <a:gd name="textAreaLeft" fmla="*/ 208080 w 4267440"/>
              <a:gd name="textAreaRight" fmla="*/ 4059360 w 4267440"/>
              <a:gd name="textAreaTop" fmla="*/ 208080 h 4343400"/>
              <a:gd name="textAreaBottom" fmla="*/ 4135320 h 4343400"/>
            </a:gdLst>
            <a:ahLst/>
            <a:rect l="textAreaLeft" t="textAreaTop" r="textAreaRight" b="textAreaBottom"/>
            <a:pathLst>
              <a:path w="21600" h="21984">
                <a:moveTo>
                  <a:pt x="3600" y="0"/>
                </a:moveTo>
                <a:arcTo wR="3600" hR="3600" stAng="16200000" swAng="-5400000"/>
                <a:lnTo>
                  <a:pt x="0" y="18384"/>
                </a:lnTo>
                <a:arcTo wR="3600" hR="3600" stAng="10800000" swAng="-5400000"/>
                <a:lnTo>
                  <a:pt x="18000" y="219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aa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621" name="Group 32"/>
          <p:cNvGrpSpPr/>
          <p:nvPr/>
        </p:nvGrpSpPr>
        <p:grpSpPr>
          <a:xfrm>
            <a:off x="990720" y="2117880"/>
            <a:ext cx="1406520" cy="3749400"/>
            <a:chOff x="990720" y="2117880"/>
            <a:chExt cx="1406520" cy="3749400"/>
          </a:xfrm>
        </p:grpSpPr>
        <p:sp>
          <p:nvSpPr>
            <p:cNvPr id="622" name="Straight Connector 30"/>
            <p:cNvSpPr/>
            <p:nvPr/>
          </p:nvSpPr>
          <p:spPr>
            <a:xfrm flipH="1">
              <a:off x="1693440" y="2586600"/>
              <a:ext cx="1080" cy="8787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23" name="Straight Connector 28"/>
            <p:cNvSpPr/>
            <p:nvPr/>
          </p:nvSpPr>
          <p:spPr>
            <a:xfrm flipH="1">
              <a:off x="1693440" y="4519800"/>
              <a:ext cx="1080" cy="8787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24" name="Rounded Rectangle 3"/>
            <p:cNvSpPr/>
            <p:nvPr/>
          </p:nvSpPr>
          <p:spPr>
            <a:xfrm>
              <a:off x="990720" y="2703600"/>
              <a:ext cx="1406520" cy="46836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25" name="Rounded Rectangle 8"/>
            <p:cNvSpPr/>
            <p:nvPr/>
          </p:nvSpPr>
          <p:spPr>
            <a:xfrm>
              <a:off x="990720" y="2117880"/>
              <a:ext cx="1406520" cy="4683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26" name="Rounded Rectangle 9"/>
            <p:cNvSpPr/>
            <p:nvPr/>
          </p:nvSpPr>
          <p:spPr>
            <a:xfrm>
              <a:off x="990720" y="5398920"/>
              <a:ext cx="1406520" cy="4683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27" name="Rounded Rectangle 11"/>
            <p:cNvSpPr/>
            <p:nvPr/>
          </p:nvSpPr>
          <p:spPr>
            <a:xfrm>
              <a:off x="990720" y="4812840"/>
              <a:ext cx="1406520" cy="46836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28" name="Rounded Rectangle 16"/>
            <p:cNvSpPr/>
            <p:nvPr/>
          </p:nvSpPr>
          <p:spPr>
            <a:xfrm>
              <a:off x="1049040" y="3406680"/>
              <a:ext cx="1230840" cy="41004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29" name="Rounded Rectangle 17"/>
            <p:cNvSpPr/>
            <p:nvPr/>
          </p:nvSpPr>
          <p:spPr>
            <a:xfrm>
              <a:off x="1049040" y="4168440"/>
              <a:ext cx="1230840" cy="41004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30" name="TextBox 32"/>
            <p:cNvSpPr/>
            <p:nvPr/>
          </p:nvSpPr>
          <p:spPr>
            <a:xfrm>
              <a:off x="1038600" y="2117880"/>
              <a:ext cx="1256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Encoder</a:t>
              </a: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31" name="TextBox 33"/>
            <p:cNvSpPr/>
            <p:nvPr/>
          </p:nvSpPr>
          <p:spPr>
            <a:xfrm>
              <a:off x="1038600" y="5394240"/>
              <a:ext cx="1256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Encoder</a:t>
              </a: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32" name="TextBox 34"/>
            <p:cNvSpPr/>
            <p:nvPr/>
          </p:nvSpPr>
          <p:spPr>
            <a:xfrm>
              <a:off x="1179360" y="3363840"/>
              <a:ext cx="988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Motor</a:t>
              </a: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33" name="TextBox 35"/>
            <p:cNvSpPr/>
            <p:nvPr/>
          </p:nvSpPr>
          <p:spPr>
            <a:xfrm>
              <a:off x="1179360" y="4125960"/>
              <a:ext cx="988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Motor</a:t>
              </a: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34" name="TextBox 38"/>
            <p:cNvSpPr/>
            <p:nvPr/>
          </p:nvSpPr>
          <p:spPr>
            <a:xfrm>
              <a:off x="1149840" y="2678040"/>
              <a:ext cx="997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Wheel</a:t>
              </a: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35" name="TextBox 39"/>
            <p:cNvSpPr/>
            <p:nvPr/>
          </p:nvSpPr>
          <p:spPr>
            <a:xfrm>
              <a:off x="1129320" y="4784760"/>
              <a:ext cx="997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Wheel</a:t>
              </a: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636" name="Group 31"/>
          <p:cNvGrpSpPr/>
          <p:nvPr/>
        </p:nvGrpSpPr>
        <p:grpSpPr>
          <a:xfrm>
            <a:off x="3200400" y="2703600"/>
            <a:ext cx="1406520" cy="2577960"/>
            <a:chOff x="3200400" y="2703600"/>
            <a:chExt cx="1406520" cy="2577960"/>
          </a:xfrm>
        </p:grpSpPr>
        <p:sp>
          <p:nvSpPr>
            <p:cNvPr id="637" name="Straight Connector 19"/>
            <p:cNvSpPr/>
            <p:nvPr/>
          </p:nvSpPr>
          <p:spPr>
            <a:xfrm>
              <a:off x="3903840" y="3172320"/>
              <a:ext cx="58320" cy="292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38" name="Straight Connector 27"/>
            <p:cNvSpPr/>
            <p:nvPr/>
          </p:nvSpPr>
          <p:spPr>
            <a:xfrm flipH="1">
              <a:off x="3903120" y="4402800"/>
              <a:ext cx="1080" cy="6444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39" name="Straight Connector 21"/>
            <p:cNvSpPr/>
            <p:nvPr/>
          </p:nvSpPr>
          <p:spPr>
            <a:xfrm flipH="1">
              <a:off x="3903120" y="2996280"/>
              <a:ext cx="1080" cy="6444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40" name="Rounded Rectangle 12"/>
            <p:cNvSpPr/>
            <p:nvPr/>
          </p:nvSpPr>
          <p:spPr>
            <a:xfrm>
              <a:off x="3200400" y="4812840"/>
              <a:ext cx="1406520" cy="46872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41" name="Rounded Rectangle 13"/>
            <p:cNvSpPr/>
            <p:nvPr/>
          </p:nvSpPr>
          <p:spPr>
            <a:xfrm>
              <a:off x="3200400" y="2703600"/>
              <a:ext cx="1406520" cy="46872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42" name="Rounded Rectangle 14"/>
            <p:cNvSpPr/>
            <p:nvPr/>
          </p:nvSpPr>
          <p:spPr>
            <a:xfrm>
              <a:off x="3258720" y="3465360"/>
              <a:ext cx="1230840" cy="41004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43" name="Rounded Rectangle 15"/>
            <p:cNvSpPr/>
            <p:nvPr/>
          </p:nvSpPr>
          <p:spPr>
            <a:xfrm>
              <a:off x="3258720" y="4168440"/>
              <a:ext cx="1230840" cy="41004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pSp>
          <p:nvGrpSpPr>
            <p:cNvPr id="644" name="Group 30"/>
            <p:cNvGrpSpPr/>
            <p:nvPr/>
          </p:nvGrpSpPr>
          <p:grpSpPr>
            <a:xfrm>
              <a:off x="3399480" y="2727000"/>
              <a:ext cx="1023840" cy="2486880"/>
              <a:chOff x="3399480" y="2727000"/>
              <a:chExt cx="1023840" cy="2486880"/>
            </a:xfrm>
          </p:grpSpPr>
          <p:sp>
            <p:nvSpPr>
              <p:cNvPr id="645" name="TextBox 36"/>
              <p:cNvSpPr/>
              <p:nvPr/>
            </p:nvSpPr>
            <p:spPr>
              <a:xfrm>
                <a:off x="3399480" y="3439800"/>
                <a:ext cx="988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Motor</a:t>
                </a: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646" name="TextBox 37"/>
              <p:cNvSpPr/>
              <p:nvPr/>
            </p:nvSpPr>
            <p:spPr>
              <a:xfrm>
                <a:off x="3399480" y="4174920"/>
                <a:ext cx="988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Motor</a:t>
                </a: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647" name="TextBox 40"/>
              <p:cNvSpPr/>
              <p:nvPr/>
            </p:nvSpPr>
            <p:spPr>
              <a:xfrm>
                <a:off x="3425760" y="2727000"/>
                <a:ext cx="997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Wheel</a:t>
                </a: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648" name="TextBox 41"/>
              <p:cNvSpPr/>
              <p:nvPr/>
            </p:nvSpPr>
            <p:spPr>
              <a:xfrm>
                <a:off x="3425760" y="4784760"/>
                <a:ext cx="997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Wheel</a:t>
                </a: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649" name="Group 33"/>
          <p:cNvGrpSpPr/>
          <p:nvPr/>
        </p:nvGrpSpPr>
        <p:grpSpPr>
          <a:xfrm>
            <a:off x="5070600" y="2727360"/>
            <a:ext cx="1406520" cy="2577960"/>
            <a:chOff x="5070600" y="2727360"/>
            <a:chExt cx="1406520" cy="2577960"/>
          </a:xfrm>
        </p:grpSpPr>
        <p:sp>
          <p:nvSpPr>
            <p:cNvPr id="650" name="Straight Connector 19"/>
            <p:cNvSpPr/>
            <p:nvPr/>
          </p:nvSpPr>
          <p:spPr>
            <a:xfrm>
              <a:off x="5774040" y="3196080"/>
              <a:ext cx="58320" cy="292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1" name="Straight Connector 27"/>
            <p:cNvSpPr/>
            <p:nvPr/>
          </p:nvSpPr>
          <p:spPr>
            <a:xfrm flipH="1">
              <a:off x="5773320" y="4426560"/>
              <a:ext cx="1080" cy="6444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2" name="Straight Connector 21"/>
            <p:cNvSpPr/>
            <p:nvPr/>
          </p:nvSpPr>
          <p:spPr>
            <a:xfrm flipH="1">
              <a:off x="5773320" y="3020040"/>
              <a:ext cx="1080" cy="6444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3" name="Rounded Rectangle 12"/>
            <p:cNvSpPr/>
            <p:nvPr/>
          </p:nvSpPr>
          <p:spPr>
            <a:xfrm>
              <a:off x="5070600" y="4836600"/>
              <a:ext cx="1406520" cy="46872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4" name="Rounded Rectangle 13"/>
            <p:cNvSpPr/>
            <p:nvPr/>
          </p:nvSpPr>
          <p:spPr>
            <a:xfrm>
              <a:off x="5070600" y="2727360"/>
              <a:ext cx="1406520" cy="46872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5" name="Rounded Rectangle 14"/>
            <p:cNvSpPr/>
            <p:nvPr/>
          </p:nvSpPr>
          <p:spPr>
            <a:xfrm>
              <a:off x="5128920" y="3489120"/>
              <a:ext cx="1230840" cy="41004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6" name="Rounded Rectangle 15"/>
            <p:cNvSpPr/>
            <p:nvPr/>
          </p:nvSpPr>
          <p:spPr>
            <a:xfrm>
              <a:off x="5128920" y="4192200"/>
              <a:ext cx="1230840" cy="41004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pSp>
          <p:nvGrpSpPr>
            <p:cNvPr id="657" name="Group 30"/>
            <p:cNvGrpSpPr/>
            <p:nvPr/>
          </p:nvGrpSpPr>
          <p:grpSpPr>
            <a:xfrm>
              <a:off x="5269680" y="2750760"/>
              <a:ext cx="988560" cy="2486880"/>
              <a:chOff x="5269680" y="2750760"/>
              <a:chExt cx="988560" cy="2486880"/>
            </a:xfrm>
          </p:grpSpPr>
          <p:sp>
            <p:nvSpPr>
              <p:cNvPr id="658" name="TextBox 36"/>
              <p:cNvSpPr/>
              <p:nvPr/>
            </p:nvSpPr>
            <p:spPr>
              <a:xfrm>
                <a:off x="5269680" y="3463560"/>
                <a:ext cx="988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Motor</a:t>
                </a: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659" name="TextBox 37"/>
              <p:cNvSpPr/>
              <p:nvPr/>
            </p:nvSpPr>
            <p:spPr>
              <a:xfrm>
                <a:off x="5269680" y="4198680"/>
                <a:ext cx="988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Motor</a:t>
                </a: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660" name="TextBox 40"/>
              <p:cNvSpPr/>
              <p:nvPr/>
            </p:nvSpPr>
            <p:spPr>
              <a:xfrm>
                <a:off x="5280120" y="2750760"/>
                <a:ext cx="903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Omni</a:t>
                </a: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661" name="TextBox 41"/>
              <p:cNvSpPr/>
              <p:nvPr/>
            </p:nvSpPr>
            <p:spPr>
              <a:xfrm>
                <a:off x="5280120" y="4808520"/>
                <a:ext cx="903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Omni</a:t>
                </a: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sp>
        <p:nvSpPr>
          <p:cNvPr id="662" name="Oval 61"/>
          <p:cNvSpPr/>
          <p:nvPr/>
        </p:nvSpPr>
        <p:spPr>
          <a:xfrm>
            <a:off x="6858000" y="3276720"/>
            <a:ext cx="1646280" cy="16462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TextBox 41"/>
          <p:cNvSpPr/>
          <p:nvPr/>
        </p:nvSpPr>
        <p:spPr>
          <a:xfrm>
            <a:off x="6920640" y="3886200"/>
            <a:ext cx="157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all Caster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4" name="TextBox 64"/>
          <p:cNvSpPr/>
          <p:nvPr/>
        </p:nvSpPr>
        <p:spPr>
          <a:xfrm>
            <a:off x="3124080" y="5486400"/>
            <a:ext cx="152424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Version 1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TextBox 65"/>
          <p:cNvSpPr/>
          <p:nvPr/>
        </p:nvSpPr>
        <p:spPr>
          <a:xfrm>
            <a:off x="5029200" y="5486400"/>
            <a:ext cx="152388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Version 2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TextBox 66"/>
          <p:cNvSpPr/>
          <p:nvPr/>
        </p:nvSpPr>
        <p:spPr>
          <a:xfrm>
            <a:off x="6934320" y="5056200"/>
            <a:ext cx="152388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Version 3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3"/>
          <p:cNvSpPr/>
          <p:nvPr/>
        </p:nvSpPr>
        <p:spPr>
          <a:xfrm>
            <a:off x="1600200" y="60199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7030a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7030a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rebuchet MS"/>
              </a:rPr>
              <a:t>1D    Robot Platform – Vex Robo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69" name="Group 58"/>
          <p:cNvGrpSpPr/>
          <p:nvPr/>
        </p:nvGrpSpPr>
        <p:grpSpPr>
          <a:xfrm>
            <a:off x="4800600" y="2286000"/>
            <a:ext cx="4229640" cy="2895480"/>
            <a:chOff x="4800600" y="2286000"/>
            <a:chExt cx="4229640" cy="2895480"/>
          </a:xfrm>
        </p:grpSpPr>
        <p:sp>
          <p:nvSpPr>
            <p:cNvPr id="670" name="Rounded Rectangle 42"/>
            <p:cNvSpPr/>
            <p:nvPr/>
          </p:nvSpPr>
          <p:spPr>
            <a:xfrm>
              <a:off x="4800600" y="2286000"/>
              <a:ext cx="2930400" cy="2895480"/>
            </a:xfrm>
            <a:prstGeom prst="roundRect">
              <a:avLst>
                <a:gd name="adj" fmla="val 16667"/>
              </a:avLst>
            </a:prstGeom>
            <a:solidFill>
              <a:srgbClr val="aa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buClr>
                  <a:srgbClr val="ffffff"/>
                </a:buClr>
                <a:buFont typeface="Trebuchet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71" name="Straight Connector 30"/>
            <p:cNvSpPr/>
            <p:nvPr/>
          </p:nvSpPr>
          <p:spPr>
            <a:xfrm flipH="1">
              <a:off x="5603760" y="2719800"/>
              <a:ext cx="720" cy="6300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72" name="Straight Connector 28"/>
            <p:cNvSpPr/>
            <p:nvPr/>
          </p:nvSpPr>
          <p:spPr>
            <a:xfrm flipH="1">
              <a:off x="5603760" y="4106160"/>
              <a:ext cx="720" cy="6300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73" name="Rounded Rectangle 3"/>
            <p:cNvSpPr/>
            <p:nvPr/>
          </p:nvSpPr>
          <p:spPr>
            <a:xfrm>
              <a:off x="5082840" y="2803680"/>
              <a:ext cx="1041840" cy="33588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74" name="Rounded Rectangle 8"/>
            <p:cNvSpPr/>
            <p:nvPr/>
          </p:nvSpPr>
          <p:spPr>
            <a:xfrm>
              <a:off x="5082840" y="2383560"/>
              <a:ext cx="1041840" cy="335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75" name="Rounded Rectangle 9"/>
            <p:cNvSpPr/>
            <p:nvPr/>
          </p:nvSpPr>
          <p:spPr>
            <a:xfrm>
              <a:off x="5082840" y="4736160"/>
              <a:ext cx="1041840" cy="335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76" name="Rounded Rectangle 11"/>
            <p:cNvSpPr/>
            <p:nvPr/>
          </p:nvSpPr>
          <p:spPr>
            <a:xfrm>
              <a:off x="5082840" y="4316040"/>
              <a:ext cx="1041840" cy="33588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77" name="Rounded Rectangle 16"/>
            <p:cNvSpPr/>
            <p:nvPr/>
          </p:nvSpPr>
          <p:spPr>
            <a:xfrm>
              <a:off x="5126400" y="3308040"/>
              <a:ext cx="911880" cy="2937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78" name="Rounded Rectangle 17"/>
            <p:cNvSpPr/>
            <p:nvPr/>
          </p:nvSpPr>
          <p:spPr>
            <a:xfrm>
              <a:off x="5126400" y="3854160"/>
              <a:ext cx="911880" cy="2937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79" name="TextBox 32"/>
            <p:cNvSpPr/>
            <p:nvPr/>
          </p:nvSpPr>
          <p:spPr>
            <a:xfrm>
              <a:off x="5066280" y="238356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Encoder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80" name="TextBox 33"/>
            <p:cNvSpPr/>
            <p:nvPr/>
          </p:nvSpPr>
          <p:spPr>
            <a:xfrm>
              <a:off x="5066280" y="473328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Encoder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81" name="TextBox 34"/>
            <p:cNvSpPr/>
            <p:nvPr/>
          </p:nvSpPr>
          <p:spPr>
            <a:xfrm>
              <a:off x="5181120" y="327744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Motor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82" name="TextBox 35"/>
            <p:cNvSpPr/>
            <p:nvPr/>
          </p:nvSpPr>
          <p:spPr>
            <a:xfrm>
              <a:off x="5181120" y="382356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Motor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83" name="TextBox 38"/>
            <p:cNvSpPr/>
            <p:nvPr/>
          </p:nvSpPr>
          <p:spPr>
            <a:xfrm>
              <a:off x="5158440" y="278568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Wheel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84" name="TextBox 39"/>
            <p:cNvSpPr/>
            <p:nvPr/>
          </p:nvSpPr>
          <p:spPr>
            <a:xfrm>
              <a:off x="5143320" y="429624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Wheel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85" name="Oval 61"/>
            <p:cNvSpPr/>
            <p:nvPr/>
          </p:nvSpPr>
          <p:spPr>
            <a:xfrm>
              <a:off x="7731000" y="3050640"/>
              <a:ext cx="1219680" cy="11800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buClr>
                  <a:srgbClr val="ffffff"/>
                </a:buClr>
                <a:buFont typeface="Trebuchet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86" name="TextBox 41"/>
            <p:cNvSpPr/>
            <p:nvPr/>
          </p:nvSpPr>
          <p:spPr>
            <a:xfrm>
              <a:off x="7705080" y="350496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Ball Caster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87" name="TextBox 66"/>
            <p:cNvSpPr/>
            <p:nvPr/>
          </p:nvSpPr>
          <p:spPr>
            <a:xfrm>
              <a:off x="6405120" y="4263480"/>
              <a:ext cx="11293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rebuchet MS"/>
                </a:rPr>
                <a:t>Version 3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88" name="TextBox 55"/>
          <p:cNvSpPr/>
          <p:nvPr/>
        </p:nvSpPr>
        <p:spPr>
          <a:xfrm>
            <a:off x="457200" y="2133720"/>
            <a:ext cx="403848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rebuchet MS"/>
              </a:rPr>
              <a:t>Mechanical Design impacts Robot Controllabilit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Regular VEX wheels, VEX Omni wheels had too </a:t>
            </a:r>
            <a:br>
              <a:rPr sz="2200"/>
            </a:b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side forces or “scrub” to work wel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buClr>
                <a:srgbClr val="d60093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60093"/>
                </a:solidFill>
                <a:latin typeface="Trebuchet MS"/>
              </a:rPr>
              <a:t>Polulu,1 inch Ball Caster used on Vex robo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rebuchet MS"/>
              </a:rPr>
              <a:t>2  Software Platform – Easy-C Pro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0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691" name="Picture 5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692" name="TextBox 5"/>
          <p:cNvSpPr/>
          <p:nvPr/>
        </p:nvSpPr>
        <p:spPr>
          <a:xfrm>
            <a:off x="2057400" y="51055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Easy-C Pro Version 3.1.0.9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rebuchet MS"/>
              </a:rPr>
              <a:t>3A   Motor Control – PWM (Pulse Width Modulation) </a:t>
            </a:r>
            <a:r>
              <a:rPr b="1" lang="en-US" sz="2400" spc="-1" strike="noStrike">
                <a:solidFill>
                  <a:srgbClr val="009900"/>
                </a:solidFill>
                <a:latin typeface="Trebuchet MS"/>
              </a:rPr>
              <a:t>– 1.25 ms, 1.50 ms, 1.75 m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4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695" name="Picture 4" descr="servo motor control with feedback potentiometer and gearbox"/>
          <p:cNvPicPr/>
          <p:nvPr/>
        </p:nvPicPr>
        <p:blipFill>
          <a:blip r:embed="rId1"/>
          <a:stretch/>
        </p:blipFill>
        <p:spPr>
          <a:xfrm>
            <a:off x="5715000" y="2057400"/>
            <a:ext cx="2295360" cy="17431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5" descr="servo control using pulse width modulation"/>
          <p:cNvPicPr/>
          <p:nvPr/>
        </p:nvPicPr>
        <p:blipFill>
          <a:blip r:embed="rId2"/>
          <a:stretch/>
        </p:blipFill>
        <p:spPr>
          <a:xfrm>
            <a:off x="457200" y="2057400"/>
            <a:ext cx="3990960" cy="31528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" descr="rc servo with potentiometer feedback and pulse width modulation control system"/>
          <p:cNvPicPr/>
          <p:nvPr/>
        </p:nvPicPr>
        <p:blipFill>
          <a:blip r:embed="rId3"/>
          <a:stretch/>
        </p:blipFill>
        <p:spPr>
          <a:xfrm>
            <a:off x="5867280" y="4038480"/>
            <a:ext cx="1524240" cy="13338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7" descr="servo control modifications for robotic control systems"/>
          <p:cNvPicPr/>
          <p:nvPr/>
        </p:nvPicPr>
        <p:blipFill>
          <a:blip r:embed="rId4"/>
          <a:stretch/>
        </p:blipFill>
        <p:spPr>
          <a:xfrm>
            <a:off x="0" y="0"/>
            <a:ext cx="371520" cy="7430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8"/>
          <p:cNvSpPr/>
          <p:nvPr/>
        </p:nvSpPr>
        <p:spPr>
          <a:xfrm>
            <a:off x="1676520" y="5410080"/>
            <a:ext cx="609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buClr>
                <a:srgbClr val="ff99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rebuchet MS"/>
              </a:rPr>
              <a:t>Acknowledgement : PC</a:t>
            </a: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Trebuchet MS"/>
              </a:rPr>
              <a:t>Control Limited is registered in England: Company Number 6805692      Registered Office: 8 Davis Close, Rothwell, Kettering, Northants, NN14 6TY.  Tel 0121-288-7403 -</a:t>
            </a:r>
            <a:br>
              <a:rPr sz="1200"/>
            </a:br>
            <a:r>
              <a:rPr b="0" lang="en-US" sz="1200" spc="-1" strike="noStrike">
                <a:solidFill>
                  <a:srgbClr val="ff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rebuchet MS"/>
              </a:rPr>
              <a:t>3B   Motor Control – PWM (0, 127, 254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1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285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rebuchet MS"/>
              </a:rPr>
              <a:t>4A  Motor Control – PWM (54, 127, 200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4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05" name="Picture 2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48006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rebuchet MS"/>
              </a:rPr>
              <a:t>4B  Motor Control – PWM (54, 127, 200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7" name="Footer Placeholder 3"/>
          <p:cNvSpPr/>
          <p:nvPr/>
        </p:nvSpPr>
        <p:spPr>
          <a:xfrm>
            <a:off x="0" y="50292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08" name="Picture 7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458200" cy="5918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8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3289320" cy="9907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9" descr=""/>
          <p:cNvPicPr/>
          <p:nvPr/>
        </p:nvPicPr>
        <p:blipFill>
          <a:blip r:embed="rId3"/>
          <a:stretch/>
        </p:blipFill>
        <p:spPr>
          <a:xfrm>
            <a:off x="5562720" y="3429000"/>
            <a:ext cx="1679400" cy="99072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10" descr=""/>
          <p:cNvPicPr/>
          <p:nvPr/>
        </p:nvPicPr>
        <p:blipFill>
          <a:blip r:embed="rId4"/>
          <a:stretch/>
        </p:blipFill>
        <p:spPr>
          <a:xfrm>
            <a:off x="6629400" y="4419720"/>
            <a:ext cx="1371600" cy="9126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1" descr=""/>
          <p:cNvPicPr/>
          <p:nvPr/>
        </p:nvPicPr>
        <p:blipFill>
          <a:blip r:embed="rId5"/>
          <a:stretch/>
        </p:blipFill>
        <p:spPr>
          <a:xfrm>
            <a:off x="7391520" y="5257800"/>
            <a:ext cx="1322280" cy="106524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12" descr=""/>
          <p:cNvPicPr/>
          <p:nvPr/>
        </p:nvPicPr>
        <p:blipFill>
          <a:blip r:embed="rId6"/>
          <a:stretch/>
        </p:blipFill>
        <p:spPr>
          <a:xfrm>
            <a:off x="1905120" y="3429000"/>
            <a:ext cx="1828800" cy="100656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13" descr=""/>
          <p:cNvPicPr/>
          <p:nvPr/>
        </p:nvPicPr>
        <p:blipFill>
          <a:blip r:embed="rId7"/>
          <a:stretch/>
        </p:blipFill>
        <p:spPr>
          <a:xfrm>
            <a:off x="1447920" y="4343400"/>
            <a:ext cx="1322280" cy="8380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4" descr=""/>
          <p:cNvPicPr/>
          <p:nvPr/>
        </p:nvPicPr>
        <p:blipFill>
          <a:blip r:embed="rId8"/>
          <a:stretch/>
        </p:blipFill>
        <p:spPr>
          <a:xfrm>
            <a:off x="685800" y="5105520"/>
            <a:ext cx="1322280" cy="1066680"/>
          </a:xfrm>
          <a:prstGeom prst="rect">
            <a:avLst/>
          </a:prstGeom>
          <a:ln w="0">
            <a:noFill/>
          </a:ln>
        </p:spPr>
      </p:pic>
      <p:cxnSp>
        <p:nvCxnSpPr>
          <p:cNvPr id="716" name="Straight Arrow Connector 21"/>
          <p:cNvCxnSpPr/>
          <p:nvPr/>
        </p:nvCxnSpPr>
        <p:spPr>
          <a:xfrm>
            <a:off x="6552720" y="2895480"/>
            <a:ext cx="1677240" cy="4579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17" name="Straight Arrow Connector 23"/>
          <p:cNvCxnSpPr/>
          <p:nvPr/>
        </p:nvCxnSpPr>
        <p:spPr>
          <a:xfrm>
            <a:off x="6477120" y="2895120"/>
            <a:ext cx="1372320" cy="2520"/>
          </a:xfrm>
          <a:prstGeom prst="straightConnector1">
            <a:avLst/>
          </a:prstGeom>
          <a:ln w="0">
            <a:noFill/>
          </a:ln>
        </p:spPr>
      </p:cxnSp>
      <p:sp>
        <p:nvSpPr>
          <p:cNvPr id="718" name="Right Arrow 27"/>
          <p:cNvSpPr/>
          <p:nvPr/>
        </p:nvSpPr>
        <p:spPr>
          <a:xfrm>
            <a:off x="6858000" y="2971800"/>
            <a:ext cx="380880" cy="152280"/>
          </a:xfrm>
          <a:prstGeom prst="rightArrow">
            <a:avLst>
              <a:gd name="adj1" fmla="val 50000"/>
              <a:gd name="adj2" fmla="val 500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Right Arrow 28"/>
          <p:cNvSpPr/>
          <p:nvPr/>
        </p:nvSpPr>
        <p:spPr>
          <a:xfrm>
            <a:off x="7543800" y="3276720"/>
            <a:ext cx="914400" cy="533160"/>
          </a:xfrm>
          <a:prstGeom prst="rightArrow">
            <a:avLst>
              <a:gd name="adj1" fmla="val 50000"/>
              <a:gd name="adj2" fmla="val 500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Right Arrow 31"/>
          <p:cNvSpPr/>
          <p:nvPr/>
        </p:nvSpPr>
        <p:spPr>
          <a:xfrm rot="19912800">
            <a:off x="4343040" y="5410080"/>
            <a:ext cx="1676520" cy="381240"/>
          </a:xfrm>
          <a:prstGeom prst="rightArrow">
            <a:avLst>
              <a:gd name="adj1" fmla="val 50000"/>
              <a:gd name="adj2" fmla="val 499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Down Arrow 16"/>
          <p:cNvSpPr/>
          <p:nvPr/>
        </p:nvSpPr>
        <p:spPr>
          <a:xfrm>
            <a:off x="1143000" y="3124080"/>
            <a:ext cx="304920" cy="762120"/>
          </a:xfrm>
          <a:prstGeom prst="downArrow">
            <a:avLst>
              <a:gd name="adj1" fmla="val 50000"/>
              <a:gd name="adj2" fmla="val 499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2" name="TextBox 17"/>
          <p:cNvSpPr/>
          <p:nvPr/>
        </p:nvSpPr>
        <p:spPr>
          <a:xfrm>
            <a:off x="2666880" y="5486400"/>
            <a:ext cx="4114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PWM values have meaning !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Right Arrow 18"/>
          <p:cNvSpPr/>
          <p:nvPr/>
        </p:nvSpPr>
        <p:spPr>
          <a:xfrm>
            <a:off x="6400800" y="2666880"/>
            <a:ext cx="2362320" cy="7621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rebuchet MS"/>
              </a:rPr>
              <a:t>Forward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Right Arrow 19"/>
          <p:cNvSpPr/>
          <p:nvPr/>
        </p:nvSpPr>
        <p:spPr>
          <a:xfrm>
            <a:off x="4724280" y="6095880"/>
            <a:ext cx="27432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rebuchet MS"/>
              </a:rPr>
              <a:t>Reverse?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Left Arrow 20"/>
          <p:cNvSpPr/>
          <p:nvPr/>
        </p:nvSpPr>
        <p:spPr>
          <a:xfrm>
            <a:off x="380880" y="2666880"/>
            <a:ext cx="2286000" cy="6858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Trebuchet MS"/>
              </a:rPr>
              <a:t>Reverse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Left Arrow 23"/>
          <p:cNvSpPr/>
          <p:nvPr/>
        </p:nvSpPr>
        <p:spPr>
          <a:xfrm>
            <a:off x="1981080" y="6095880"/>
            <a:ext cx="2514600" cy="76212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Trebuchet MS"/>
              </a:rPr>
              <a:t>Forward?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rebuchet MS"/>
              </a:rPr>
              <a:t>4A       VEX Encoder -  Feedback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8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29" name="Picture 2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469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rebuchet MS"/>
              </a:rPr>
              <a:t>4B        VEX Encoder -  Feedback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1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32" name="Picture 5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070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rebuchet MS"/>
              </a:rPr>
              <a:t>4C        VEX Encoder -  Feedback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4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35" name="Picture 2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620120" cy="449568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1676520" y="5638680"/>
            <a:ext cx="6248160" cy="4597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c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rebuchet MS"/>
              </a:rPr>
              <a:t>90 pulses per complete wheel revolu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bf"/>
                </a:solidFill>
                <a:latin typeface="Trebuchet MS"/>
              </a:rPr>
              <a:t>Introduction – Background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24"/>
              </a:spcBef>
              <a:buClr>
                <a:srgbClr val="ff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99"/>
                </a:solidFill>
                <a:latin typeface="Trebuchet MS"/>
              </a:rPr>
              <a:t>Proportional-Integral-Differential Control is a basic control technique used for many closed-loop systems used in industry. 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24"/>
              </a:spcBef>
              <a:buClr>
                <a:srgbClr val="7030a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Trebuchet MS"/>
              </a:rPr>
              <a:t>A simple driving straight algorithm, programmed in Easy-C, has been created that implements the Prop-Integral correction. 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24"/>
              </a:spcBef>
              <a:buClr>
                <a:srgbClr val="00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9900"/>
                </a:solidFill>
                <a:latin typeface="Trebuchet MS"/>
              </a:rPr>
              <a:t>The VEX robot utilizes two encoders directly mounted,  modifying the motor speed variables via PI control to increase the speed using encoder feedback to assist in driving in a straight line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rebuchet MS"/>
              </a:rPr>
              <a:t>4D        VEX Encoder -  Feedback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TextBox 5"/>
          <p:cNvSpPr/>
          <p:nvPr/>
        </p:nvSpPr>
        <p:spPr>
          <a:xfrm>
            <a:off x="1371600" y="1981080"/>
            <a:ext cx="678168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ff3399"/>
                </a:solidFill>
                <a:latin typeface="Trebuchet MS"/>
              </a:rPr>
              <a:t>90 pulses per complete wheel revolu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ff3399"/>
                </a:solidFill>
                <a:latin typeface="Trebuchet MS"/>
              </a:rPr>
              <a:t>90 pulses / 360 degrees wheel rota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1 encoder pulse   /   4 degrees rota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70c0"/>
                </a:solidFill>
                <a:latin typeface="Trebuchet MS"/>
              </a:rPr>
              <a:t>5 encoder pulses /  20 degrees rota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Trebuchet MS"/>
              </a:rPr>
              <a:t>10 encoder pulses /   40 degrees rota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002060"/>
                </a:solidFill>
                <a:latin typeface="Trebuchet MS"/>
              </a:rPr>
              <a:t>15 encoder pulses /   60 degrees rota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ff9900"/>
                </a:solidFill>
                <a:latin typeface="Trebuchet MS"/>
              </a:rPr>
              <a:t>25 encoder pulses / 100 degrees rota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  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30 encoder pulses / 120 degrees rota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rebuchet MS"/>
              </a:rPr>
              <a:t>5A   Motor Control – Open-Loop  Joystick input to PWM Control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1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742" name="Group 16"/>
          <p:cNvGrpSpPr/>
          <p:nvPr/>
        </p:nvGrpSpPr>
        <p:grpSpPr>
          <a:xfrm>
            <a:off x="304920" y="1828800"/>
            <a:ext cx="6400800" cy="4191120"/>
            <a:chOff x="304920" y="1828800"/>
            <a:chExt cx="6400800" cy="4191120"/>
          </a:xfrm>
        </p:grpSpPr>
        <p:pic>
          <p:nvPicPr>
            <p:cNvPr id="743" name="Picture 4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6400800" cy="39625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44" name="Straight Arrow Connector 7"/>
            <p:cNvCxnSpPr/>
            <p:nvPr/>
          </p:nvCxnSpPr>
          <p:spPr>
            <a:xfrm flipV="1">
              <a:off x="3732840" y="4267080"/>
              <a:ext cx="76680" cy="76248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745" name="Up Arrow 8"/>
            <p:cNvSpPr/>
            <p:nvPr/>
          </p:nvSpPr>
          <p:spPr>
            <a:xfrm>
              <a:off x="5181840" y="2819160"/>
              <a:ext cx="304560" cy="2133720"/>
            </a:xfrm>
            <a:prstGeom prst="upArrow">
              <a:avLst>
                <a:gd name="adj1" fmla="val 50000"/>
                <a:gd name="adj2" fmla="val 5004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buClr>
                  <a:srgbClr val="ffffff"/>
                </a:buClr>
                <a:buFont typeface="Trebuchet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46" name="Up Arrow 9"/>
            <p:cNvSpPr/>
            <p:nvPr/>
          </p:nvSpPr>
          <p:spPr>
            <a:xfrm>
              <a:off x="3124440" y="3886200"/>
              <a:ext cx="304560" cy="1295280"/>
            </a:xfrm>
            <a:prstGeom prst="upArrow">
              <a:avLst>
                <a:gd name="adj1" fmla="val 50000"/>
                <a:gd name="adj2" fmla="val 5003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buClr>
                  <a:srgbClr val="ffffff"/>
                </a:buClr>
                <a:buFont typeface="Trebuchet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47" name="Up Arrow 10"/>
            <p:cNvSpPr/>
            <p:nvPr/>
          </p:nvSpPr>
          <p:spPr>
            <a:xfrm>
              <a:off x="1066680" y="5258160"/>
              <a:ext cx="304560" cy="761760"/>
            </a:xfrm>
            <a:prstGeom prst="upArrow">
              <a:avLst>
                <a:gd name="adj1" fmla="val 50000"/>
                <a:gd name="adj2" fmla="val 50024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buClr>
                  <a:srgbClr val="ffffff"/>
                </a:buClr>
                <a:buFont typeface="Trebuchet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48" name="Left Arrow 12"/>
            <p:cNvSpPr/>
            <p:nvPr/>
          </p:nvSpPr>
          <p:spPr>
            <a:xfrm>
              <a:off x="1676520" y="2514600"/>
              <a:ext cx="3124080" cy="304560"/>
            </a:xfrm>
            <a:prstGeom prst="leftArrow">
              <a:avLst>
                <a:gd name="adj1" fmla="val 50000"/>
                <a:gd name="adj2" fmla="val 50054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buClr>
                  <a:srgbClr val="ffffff"/>
                </a:buClr>
                <a:buFont typeface="Trebuchet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49" name="Left Arrow 13"/>
            <p:cNvSpPr/>
            <p:nvPr/>
          </p:nvSpPr>
          <p:spPr>
            <a:xfrm>
              <a:off x="1295280" y="3733920"/>
              <a:ext cx="1676160" cy="304560"/>
            </a:xfrm>
            <a:prstGeom prst="leftArrow">
              <a:avLst>
                <a:gd name="adj1" fmla="val 50000"/>
                <a:gd name="adj2" fmla="val 5004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buClr>
                  <a:srgbClr val="ffffff"/>
                </a:buClr>
                <a:buFont typeface="Trebuchet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0" name="Left Arrow 15"/>
            <p:cNvSpPr/>
            <p:nvPr/>
          </p:nvSpPr>
          <p:spPr>
            <a:xfrm>
              <a:off x="1371600" y="5029560"/>
              <a:ext cx="838080" cy="228600"/>
            </a:xfrm>
            <a:prstGeom prst="leftArrow">
              <a:avLst>
                <a:gd name="adj1" fmla="val 50000"/>
                <a:gd name="adj2" fmla="val 49985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buClr>
                  <a:srgbClr val="ffffff"/>
                </a:buClr>
                <a:buFont typeface="Trebuchet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751" name="Picture 5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2050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rebuchet MS"/>
              </a:rPr>
              <a:t>5B   Motor Control – Open-Loop  Joystick input to PWM Control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54" name="Picture 4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6288120" cy="4572000"/>
          </a:xfrm>
          <a:prstGeom prst="rect">
            <a:avLst/>
          </a:prstGeom>
          <a:ln w="0">
            <a:noFill/>
          </a:ln>
        </p:spPr>
      </p:pic>
      <p:sp>
        <p:nvSpPr>
          <p:cNvPr id="755" name="Up Arrow 18"/>
          <p:cNvSpPr/>
          <p:nvPr/>
        </p:nvSpPr>
        <p:spPr>
          <a:xfrm>
            <a:off x="3886200" y="4114800"/>
            <a:ext cx="304920" cy="144792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6" name="Up Arrow 19"/>
          <p:cNvSpPr/>
          <p:nvPr/>
        </p:nvSpPr>
        <p:spPr>
          <a:xfrm flipH="1" rot="14094600">
            <a:off x="2750040" y="3727440"/>
            <a:ext cx="338400" cy="2347920"/>
          </a:xfrm>
          <a:prstGeom prst="upArrow">
            <a:avLst>
              <a:gd name="adj1" fmla="val 50000"/>
              <a:gd name="adj2" fmla="val 49949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Up Arrow 20"/>
          <p:cNvSpPr/>
          <p:nvPr/>
        </p:nvSpPr>
        <p:spPr>
          <a:xfrm rot="3330000">
            <a:off x="5175360" y="1788840"/>
            <a:ext cx="297000" cy="2779920"/>
          </a:xfrm>
          <a:prstGeom prst="upArrow">
            <a:avLst>
              <a:gd name="adj1" fmla="val 50000"/>
              <a:gd name="adj2" fmla="val 5005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Up Arrow 21"/>
          <p:cNvSpPr/>
          <p:nvPr/>
        </p:nvSpPr>
        <p:spPr>
          <a:xfrm>
            <a:off x="1600200" y="2286000"/>
            <a:ext cx="380880" cy="1523880"/>
          </a:xfrm>
          <a:prstGeom prst="upArrow">
            <a:avLst>
              <a:gd name="adj1" fmla="val 50000"/>
              <a:gd name="adj2" fmla="val 52401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Up Arrow 22"/>
          <p:cNvSpPr/>
          <p:nvPr/>
        </p:nvSpPr>
        <p:spPr>
          <a:xfrm rot="16200000">
            <a:off x="2466000" y="3216960"/>
            <a:ext cx="420480" cy="152388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Up Arrow 23"/>
          <p:cNvSpPr/>
          <p:nvPr/>
        </p:nvSpPr>
        <p:spPr>
          <a:xfrm rot="10800000">
            <a:off x="1600200" y="4038480"/>
            <a:ext cx="380880" cy="1524240"/>
          </a:xfrm>
          <a:prstGeom prst="upArrow">
            <a:avLst>
              <a:gd name="adj1" fmla="val 50000"/>
              <a:gd name="adj2" fmla="val 5241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spcBef>
                <a:spcPts val="5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rebuchet MS"/>
              </a:rPr>
              <a:t>5D   Motor Control – Open-Loop  Joystick input to PWM Control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2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3" name="TextBox 10"/>
          <p:cNvSpPr/>
          <p:nvPr/>
        </p:nvSpPr>
        <p:spPr>
          <a:xfrm>
            <a:off x="762120" y="2133720"/>
            <a:ext cx="743724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Trebuchet MS"/>
              </a:rPr>
              <a:t>PWM Motor Control output tracks/follows/mirrors the Joystick input command in a direct manner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Joystick input = 127 , PWM motor control = 127, Off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rebuchet MS"/>
              </a:rPr>
              <a:t>Joystick input = 200,  PWM motor control = 200,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rebuchet MS"/>
              </a:rPr>
              <a:t>Joystick input =   50,  PWM motor control =   50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4" name="TextBox 11"/>
          <p:cNvSpPr/>
          <p:nvPr/>
        </p:nvSpPr>
        <p:spPr>
          <a:xfrm>
            <a:off x="838080" y="4800600"/>
            <a:ext cx="7162920" cy="106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PWM Open-Loop motor control = 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Joystick input (0-255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rebuchet MS"/>
              </a:rPr>
              <a:t>5D   Motor Control – Open-Loop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6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908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rebuchet MS"/>
              </a:rPr>
              <a:t>5E   Motor Control – Open-Loop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9" name="Footer Placeholder 3"/>
          <p:cNvSpPr/>
          <p:nvPr/>
        </p:nvSpPr>
        <p:spPr>
          <a:xfrm>
            <a:off x="1676520" y="61722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TextBox 4"/>
          <p:cNvSpPr/>
          <p:nvPr/>
        </p:nvSpPr>
        <p:spPr>
          <a:xfrm>
            <a:off x="626040" y="2209680"/>
            <a:ext cx="81162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Trebuchet MS"/>
              </a:rPr>
              <a:t>In order for Closed-Loop control to work well the Open-Loop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Trebuchet MS"/>
              </a:rPr>
              <a:t>control must be reasonably accurate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TextBox 5"/>
          <p:cNvSpPr/>
          <p:nvPr/>
        </p:nvSpPr>
        <p:spPr>
          <a:xfrm>
            <a:off x="758160" y="3352680"/>
            <a:ext cx="7413480" cy="83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I think this is one fact that often is seriously overlooked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by novices – make the Open-Loop control work well!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TextBox 6"/>
          <p:cNvSpPr/>
          <p:nvPr/>
        </p:nvSpPr>
        <p:spPr>
          <a:xfrm>
            <a:off x="835920" y="4419720"/>
            <a:ext cx="767268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Trebuchet MS"/>
              </a:rPr>
              <a:t>In this example, I experimentally determined the value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Trebuchet MS"/>
              </a:rPr>
              <a:t>that would make the VEX robot drive reasonably straight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Trebuchet MS"/>
              </a:rPr>
              <a:t>Open_Loop_Speed = 166 (Motor2) &amp; 97(Motor1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6A  PID Control – Closed-Loop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4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TextBox 4"/>
          <p:cNvSpPr/>
          <p:nvPr/>
        </p:nvSpPr>
        <p:spPr>
          <a:xfrm>
            <a:off x="-85680" y="1981080"/>
            <a:ext cx="935820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Closed-Loop Control uses information obtained from a sensor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to modify the system behavior.  Another way of expressing thi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idea is that “feedback” is used to modify the original system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Behavior (Open-Loop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TextBox 5"/>
          <p:cNvSpPr/>
          <p:nvPr/>
        </p:nvSpPr>
        <p:spPr>
          <a:xfrm>
            <a:off x="457200" y="3809880"/>
            <a:ext cx="839628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Trebuchet MS"/>
              </a:rPr>
              <a:t>Closed-Loop Control uses information obtained from the pair of Encoders to modify the motor speed command.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bf"/>
                </a:solidFill>
                <a:latin typeface="Trebuchet MS"/>
              </a:rPr>
              <a:t>Our Closed-Loop Control example will utilize both proportional and integral correction and neglect differential correction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6B  PID Control – Closed-Loop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8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TextBox 4"/>
          <p:cNvSpPr/>
          <p:nvPr/>
        </p:nvSpPr>
        <p:spPr>
          <a:xfrm>
            <a:off x="-73440" y="1981080"/>
            <a:ext cx="9292680" cy="34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Closed-Loop Control requires the use of an error term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Our error term is simple: Compare the difference between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both encoder pulse counts in order to determine which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motor (left or right) needs to speed up to help drive straight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rebuchet MS"/>
              </a:rPr>
              <a:t>Closed-Loop Error = Right Encoder – Left Encod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6C  PID Control – Closed-Loop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1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82" name="Picture 4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728040" cy="2095560"/>
          </a:xfrm>
          <a:prstGeom prst="rect">
            <a:avLst/>
          </a:prstGeom>
          <a:ln w="0">
            <a:noFill/>
          </a:ln>
        </p:spPr>
      </p:pic>
      <p:sp>
        <p:nvSpPr>
          <p:cNvPr id="783" name="TextBox 5"/>
          <p:cNvSpPr/>
          <p:nvPr/>
        </p:nvSpPr>
        <p:spPr>
          <a:xfrm>
            <a:off x="1236960" y="4952880"/>
            <a:ext cx="594144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Goal: Use Encoder Feedback to help the VEX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Robot Drive Straight Autonomousl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6D  PID Control – Closed-Loop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5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86" name="Picture 4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84872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bf"/>
                </a:solidFill>
                <a:latin typeface="Trebuchet MS"/>
              </a:rPr>
              <a:t>Introduction –Primary Goal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b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bf"/>
                </a:solidFill>
                <a:latin typeface="Trebuchet MS"/>
              </a:rPr>
              <a:t>The PI control methodology in this presentation has been implemented in a manner that can be understood by high-school students and their coaches, an audience that is often left behind by the technical nature of PI-control..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rebuchet MS"/>
              </a:rPr>
              <a:t>7A  Proportional Correction – P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8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TextBox 3"/>
          <p:cNvSpPr/>
          <p:nvPr/>
        </p:nvSpPr>
        <p:spPr>
          <a:xfrm>
            <a:off x="914400" y="213372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rebuchet MS"/>
              </a:rPr>
              <a:t>The larger the Closed-Loop error term, the larger the Proportional Correction becomes and vice vers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TextBox 6"/>
          <p:cNvSpPr/>
          <p:nvPr/>
        </p:nvSpPr>
        <p:spPr>
          <a:xfrm>
            <a:off x="685800" y="3809880"/>
            <a:ext cx="75438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Algebra: Think of the Proportional Correction as the slope of a line: y = mx + b 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(m = slope, x =Closed-Loop error term, b=0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rebuchet MS"/>
              </a:rPr>
              <a:t>7B  Proportional Correction – P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3" name="TextBox 3"/>
          <p:cNvSpPr/>
          <p:nvPr/>
        </p:nvSpPr>
        <p:spPr>
          <a:xfrm>
            <a:off x="1295280" y="2209680"/>
            <a:ext cx="624852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If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Right Encoder &gt; Left Encoder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Then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Increase PWM Motor Counts b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(Right Encoder – Left Encoder) / 4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Limit to 20%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4" name="TextBox 4"/>
          <p:cNvSpPr/>
          <p:nvPr/>
        </p:nvSpPr>
        <p:spPr>
          <a:xfrm>
            <a:off x="920880" y="4038480"/>
            <a:ext cx="67262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MotorX_PropAdapt = (Total Right Encoder Counts-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Total Left Encoder Counts)/4 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5" name="TextBox 5"/>
          <p:cNvSpPr/>
          <p:nvPr/>
        </p:nvSpPr>
        <p:spPr>
          <a:xfrm>
            <a:off x="1046160" y="5105520"/>
            <a:ext cx="588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0 &lt; MotorX_PropAdapt &lt; 20 (good practice)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6" name="Rectangle 6"/>
          <p:cNvSpPr/>
          <p:nvPr/>
        </p:nvSpPr>
        <p:spPr>
          <a:xfrm>
            <a:off x="1676520" y="5791320"/>
            <a:ext cx="609588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Trebuchet MS"/>
              </a:rPr>
              <a:t>90 pulses per complete wheel revolut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8A  Integral Correction – I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8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TextBox 3"/>
          <p:cNvSpPr/>
          <p:nvPr/>
        </p:nvSpPr>
        <p:spPr>
          <a:xfrm>
            <a:off x="914400" y="2209680"/>
            <a:ext cx="701028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rebuchet MS"/>
              </a:rPr>
              <a:t>I propose that you use a modified metho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rebuchet MS"/>
              </a:rPr>
              <a:t>for Integral Correction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700"/>
              </a:spcBef>
              <a:buClr>
                <a:srgbClr val="cc66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rebuchet MS"/>
              </a:rPr>
              <a:t>Increase/Decrease the Integral Term by one for each control loop based pm the Closed-Loop Error within limit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8B  Integral Correction – I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1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TextBox 3"/>
          <p:cNvSpPr/>
          <p:nvPr/>
        </p:nvSpPr>
        <p:spPr>
          <a:xfrm>
            <a:off x="1295280" y="2209680"/>
            <a:ext cx="624852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If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Right Encoder &gt; (Left Encoder </a:t>
            </a:r>
            <a:r>
              <a:rPr b="0" lang="en-US" sz="2200" spc="-1" strike="noStrike">
                <a:solidFill>
                  <a:srgbClr val="ff3399"/>
                </a:solidFill>
                <a:latin typeface="Trebuchet MS"/>
              </a:rPr>
              <a:t>+ offset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Then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Increase PWM Motor Counts by One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Else     Decrease PWM Motor Counts by One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          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Limit to plus/minus 10%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3" name="TextBox 5"/>
          <p:cNvSpPr/>
          <p:nvPr/>
        </p:nvSpPr>
        <p:spPr>
          <a:xfrm>
            <a:off x="1449360" y="4114800"/>
            <a:ext cx="587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rebuchet MS"/>
              </a:rPr>
              <a:t>-10 &lt; MotorX_IntAdapt &lt; 10 (good practice)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1143000" y="5105520"/>
            <a:ext cx="609588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Trebuchet MS"/>
              </a:rPr>
              <a:t>90 pulses per complete wheel revolut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8C  Integral Correction – I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6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rebuchet MS"/>
              </a:rPr>
              <a:t>9A  Prop + Integral – PI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8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rebuchet MS"/>
              </a:rPr>
              <a:t>9B  Prop + Integral – PI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0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rebuchet MS"/>
              </a:rPr>
              <a:t>10  Differential Correction– D Contro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2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TextBox 3"/>
          <p:cNvSpPr/>
          <p:nvPr/>
        </p:nvSpPr>
        <p:spPr>
          <a:xfrm>
            <a:off x="809640" y="2362320"/>
            <a:ext cx="79059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Will not be used in this presentat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buClr>
                <a:srgbClr val="ffc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rebuchet MS"/>
              </a:rPr>
              <a:t>Is more difficult to calibrate/tune in genera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buClr>
                <a:srgbClr val="ff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rebuchet MS"/>
              </a:rPr>
              <a:t>Is difficult to teach to high school student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rebuchet MS"/>
              </a:rPr>
              <a:t>11  Test Case 1 – P control Only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5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16" name="Picture 3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86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rebuchet MS"/>
              </a:rPr>
              <a:t>12  Test Case 2 – P control Only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8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iographical Info – Marc Center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GM Product Development -Hybrid Powertrain System Engineer for Gen2 RWD next generation of hybrid transmission products, 2007 - forwar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rebuchet MS"/>
              </a:rPr>
              <a:t>Undergraduate degree – BE-EE – General Motors Institute (Kettering University) – 1982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rebuchet MS"/>
              </a:rPr>
              <a:t>Graduate degree – MS-ECE – Oakland University Rochester Michigan – 1986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rebuchet MS"/>
              </a:rPr>
              <a:t>25 years plus of embedded engine/transmission/hybrid controls experience at General Moto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Team 1286, Oakland Technical Campus-SE, mentor 2005,200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Paul Center, son, award $24,000 FIRST scholarship to Lawrence Technological Univers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akland County Competitive Robotics Association VEX Mentor, Oakland County, Michigan 2007/2008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rebuchet MS"/>
              </a:rPr>
              <a:t>Team 47, Chief Delphi, Pontiac Central High School Engineering Mentor for 2008/2009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rebuchet MS"/>
              </a:rPr>
              <a:t>13  Test Case 1 – I control Only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0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21" name="Picture 1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86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rebuchet MS"/>
              </a:rPr>
              <a:t>14  Test Case 2 – I control Only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3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rebuchet MS"/>
              </a:rPr>
              <a:t>15  Test Case 1 – PI control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5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26" name="Picture 2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70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rebuchet MS"/>
              </a:rPr>
              <a:t>16  Test Case 2 – PI control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8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rebuchet MS"/>
              </a:rPr>
              <a:t>17  PI Control Tuning Idea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0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TextBox 3"/>
          <p:cNvSpPr/>
          <p:nvPr/>
        </p:nvSpPr>
        <p:spPr>
          <a:xfrm>
            <a:off x="838080" y="1828800"/>
            <a:ext cx="7848720" cy="52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Limit Proportional Correction &lt; +/- 20% , preferably &lt; +/- 10%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buClr>
                <a:srgbClr val="ff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rebuchet MS"/>
              </a:rPr>
              <a:t>Limit Integral Correction &lt; +/- 10%, preferably &lt; +/- 5%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buClr>
                <a:srgbClr val="ff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rebuchet MS"/>
              </a:rPr>
              <a:t>Use the modified Integral Correction method outlined and Limit Integral Correction &lt; 1% per control execution rat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rebuchet MS"/>
              </a:rPr>
              <a:t>Open-Loop Control should deliver 80-90% of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002060"/>
                </a:solidFill>
                <a:latin typeface="Trebuchet MS"/>
              </a:rPr>
              <a:t>final results without Closed-Loop Contro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rebuchet MS"/>
              </a:rPr>
              <a:t>17</a:t>
            </a:r>
            <a:r>
              <a:rPr b="1" lang="en-US" sz="3200" spc="-1" strike="noStrike">
                <a:solidFill>
                  <a:srgbClr val="990099"/>
                </a:solidFill>
                <a:latin typeface="Trebuchet MS"/>
              </a:rPr>
              <a:t>  </a:t>
            </a:r>
            <a:r>
              <a:rPr b="1" lang="en-US" sz="3200" spc="-1" strike="noStrike">
                <a:solidFill>
                  <a:srgbClr val="009900"/>
                </a:solidFill>
                <a:latin typeface="Trebuchet MS"/>
              </a:rPr>
              <a:t>Good software control practice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TextBox 3"/>
          <p:cNvSpPr/>
          <p:nvPr/>
        </p:nvSpPr>
        <p:spPr>
          <a:xfrm>
            <a:off x="838080" y="2286000"/>
            <a:ext cx="78487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Place limits on calculation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rebuchet MS"/>
              </a:rPr>
              <a:t>Know what the numbers mean!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spcBef>
                <a:spcPts val="700"/>
              </a:spcBef>
              <a:buClr>
                <a:srgbClr val="ff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rebuchet MS"/>
              </a:rPr>
              <a:t>Create test cases and verify test result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rebuchet MS"/>
              </a:rPr>
              <a:t>18 Acknowledgement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6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9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19 Appendice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8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ackup / Additional Reference Material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0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EasyC Pro Programming Example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2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3" name="TextBox 4"/>
          <p:cNvSpPr/>
          <p:nvPr/>
        </p:nvSpPr>
        <p:spPr>
          <a:xfrm>
            <a:off x="1219320" y="2133720"/>
            <a:ext cx="670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b05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An EasyC Pro program that illustrates the concepts in this presentation has been created and resides on Chief Delphi websit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8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rebuchet MS"/>
              </a:rPr>
              <a:t>Outline Parts 1-9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94920" y="19047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91680" indent="-3916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rebuchet MS"/>
              </a:rPr>
              <a:t>Robot Platform – VEX Robo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91680" indent="-3916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Software Platform – Easy-C Pr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91680" indent="-3916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Motor Control – PWM (0, 127, 254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91680" indent="-3916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Motor Control – PWM (54, 127, 200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91680" indent="-3916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rebuchet MS"/>
              </a:rPr>
              <a:t>VEX Encoder -  Feedbac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91680" indent="-391680">
              <a:lnSpc>
                <a:spcPct val="90000"/>
              </a:lnSpc>
              <a:spcBef>
                <a:spcPts val="700"/>
              </a:spcBef>
              <a:buClr>
                <a:srgbClr val="9900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rebuchet MS"/>
              </a:rPr>
              <a:t>Motor Control – Open-Loo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91680" indent="-3916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rebuchet MS"/>
              </a:rPr>
              <a:t>PID Control – Closed-Loop(feedback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91680" indent="-391680">
              <a:lnSpc>
                <a:spcPct val="90000"/>
              </a:lnSpc>
              <a:spcBef>
                <a:spcPts val="700"/>
              </a:spcBef>
              <a:buClr>
                <a:srgbClr val="00b0f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rebuchet MS"/>
              </a:rPr>
              <a:t>Proportional Correction – P Contro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91680" indent="-39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Integral Correction – I Contro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9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9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EasyC Pro Website Information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5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6" name="Picture 5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315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8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rebuchet MS"/>
              </a:rPr>
              <a:t>Outline Parts 10- 16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rebuchet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Trebuchet MS"/>
              </a:rPr>
              <a:t>Differential Control – D Contro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Trebuchet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rebuchet MS"/>
              </a:rPr>
              <a:t>Test Case 1 (P only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Trebuchet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rebuchet MS"/>
              </a:rPr>
              <a:t>Test Case 2 (P only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Trebuchet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Trebuchet MS"/>
              </a:rPr>
              <a:t>Test Case 1 (I only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Trebuchet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Trebuchet MS"/>
              </a:rPr>
              <a:t>Test Case 2 (I only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Trebuchet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Test Case 1 (P + I together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Trebuchet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Test Case 2 (P + I together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8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rebuchet MS"/>
              </a:rPr>
              <a:t>Outline Parts 17- 22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rebuchet MS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PI Control Tuning Practi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Trebuchet MS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Good software control practi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b0f0"/>
              </a:buClr>
              <a:buFont typeface="Trebuchet MS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Trebuchet MS"/>
              </a:rPr>
              <a:t>Acknowledgements</a:t>
            </a:r>
            <a:r>
              <a:rPr b="0" lang="en-US" sz="2800" spc="-1" strike="noStrike">
                <a:solidFill>
                  <a:srgbClr val="00b0f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rebuchet MS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Appendi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Footer Placeholder 3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rebuchet MS"/>
              </a:rPr>
              <a:t>1A    Robot Platform – Vex Robo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75" name="Picture 4" descr="100_6703"/>
          <p:cNvPicPr/>
          <p:nvPr/>
        </p:nvPicPr>
        <p:blipFill>
          <a:blip r:embed="rId1"/>
          <a:stretch/>
        </p:blipFill>
        <p:spPr>
          <a:xfrm>
            <a:off x="533520" y="1828800"/>
            <a:ext cx="8078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3"/>
          <p:cNvSpPr/>
          <p:nvPr/>
        </p:nvSpPr>
        <p:spPr>
          <a:xfrm>
            <a:off x="205740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9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rebuchet MS"/>
              </a:rPr>
              <a:t>1B    Robot Platform – Vex Robo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78" name="Group 34"/>
          <p:cNvGrpSpPr/>
          <p:nvPr/>
        </p:nvGrpSpPr>
        <p:grpSpPr>
          <a:xfrm>
            <a:off x="304920" y="1981080"/>
            <a:ext cx="4419360" cy="3810240"/>
            <a:chOff x="304920" y="1981080"/>
            <a:chExt cx="4419360" cy="3810240"/>
          </a:xfrm>
        </p:grpSpPr>
        <p:sp>
          <p:nvSpPr>
            <p:cNvPr id="579" name="Rounded Rectangle 42"/>
            <p:cNvSpPr/>
            <p:nvPr/>
          </p:nvSpPr>
          <p:spPr>
            <a:xfrm>
              <a:off x="304920" y="1981080"/>
              <a:ext cx="4419360" cy="3810240"/>
            </a:xfrm>
            <a:prstGeom prst="roundRect">
              <a:avLst>
                <a:gd name="adj" fmla="val 16667"/>
              </a:avLst>
            </a:prstGeom>
            <a:solidFill>
              <a:srgbClr val="aa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285840">
                <a:spcBef>
                  <a:spcPts val="550"/>
                </a:spcBef>
                <a:buClr>
                  <a:srgbClr val="ffffff"/>
                </a:buClr>
                <a:buFont typeface="Trebuchet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pSp>
          <p:nvGrpSpPr>
            <p:cNvPr id="580" name="Group 31"/>
            <p:cNvGrpSpPr/>
            <p:nvPr/>
          </p:nvGrpSpPr>
          <p:grpSpPr>
            <a:xfrm>
              <a:off x="746640" y="2188800"/>
              <a:ext cx="3567600" cy="3409200"/>
              <a:chOff x="746640" y="2188800"/>
              <a:chExt cx="3567600" cy="3409200"/>
            </a:xfrm>
          </p:grpSpPr>
          <p:sp>
            <p:nvSpPr>
              <p:cNvPr id="581" name="Straight Connector 30"/>
              <p:cNvSpPr/>
              <p:nvPr/>
            </p:nvSpPr>
            <p:spPr>
              <a:xfrm flipH="1">
                <a:off x="1256040" y="2614680"/>
                <a:ext cx="720" cy="798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82" name="Straight Connector 28"/>
              <p:cNvSpPr/>
              <p:nvPr/>
            </p:nvSpPr>
            <p:spPr>
              <a:xfrm flipH="1">
                <a:off x="1256040" y="4372920"/>
                <a:ext cx="720" cy="798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83" name="Straight Connector 19"/>
              <p:cNvSpPr/>
              <p:nvPr/>
            </p:nvSpPr>
            <p:spPr>
              <a:xfrm>
                <a:off x="3804840" y="3147480"/>
                <a:ext cx="42480" cy="2660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84" name="Straight Connector 27"/>
              <p:cNvSpPr/>
              <p:nvPr/>
            </p:nvSpPr>
            <p:spPr>
              <a:xfrm flipH="1">
                <a:off x="3804840" y="4266360"/>
                <a:ext cx="720" cy="5857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85" name="Straight Connector 21"/>
              <p:cNvSpPr/>
              <p:nvPr/>
            </p:nvSpPr>
            <p:spPr>
              <a:xfrm flipH="1">
                <a:off x="3804840" y="2987640"/>
                <a:ext cx="720" cy="5857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86" name="Rounded Rectangle 3"/>
              <p:cNvSpPr/>
              <p:nvPr/>
            </p:nvSpPr>
            <p:spPr>
              <a:xfrm>
                <a:off x="746640" y="2721240"/>
                <a:ext cx="1019160" cy="425880"/>
              </a:xfrm>
              <a:prstGeom prst="roundRect">
                <a:avLst>
                  <a:gd name="adj" fmla="val 16667"/>
                </a:avLst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43040" indent="-285840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87" name="Rounded Rectangle 8"/>
              <p:cNvSpPr/>
              <p:nvPr/>
            </p:nvSpPr>
            <p:spPr>
              <a:xfrm>
                <a:off x="746640" y="2188800"/>
                <a:ext cx="1019160" cy="425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43040" indent="-285840"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88" name="Rounded Rectangle 9"/>
              <p:cNvSpPr/>
              <p:nvPr/>
            </p:nvSpPr>
            <p:spPr>
              <a:xfrm>
                <a:off x="746640" y="5172120"/>
                <a:ext cx="1019160" cy="425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43040" indent="-285840"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89" name="Rounded Rectangle 11"/>
              <p:cNvSpPr/>
              <p:nvPr/>
            </p:nvSpPr>
            <p:spPr>
              <a:xfrm>
                <a:off x="746640" y="4639320"/>
                <a:ext cx="1019160" cy="425880"/>
              </a:xfrm>
              <a:prstGeom prst="roundRect">
                <a:avLst>
                  <a:gd name="adj" fmla="val 16667"/>
                </a:avLst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43040" indent="-285840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90" name="Rounded Rectangle 12"/>
              <p:cNvSpPr/>
              <p:nvPr/>
            </p:nvSpPr>
            <p:spPr>
              <a:xfrm>
                <a:off x="3295080" y="4639320"/>
                <a:ext cx="1019160" cy="425880"/>
              </a:xfrm>
              <a:prstGeom prst="roundRect">
                <a:avLst>
                  <a:gd name="adj" fmla="val 16667"/>
                </a:avLst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43040" indent="-285840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91" name="Rounded Rectangle 13"/>
              <p:cNvSpPr/>
              <p:nvPr/>
            </p:nvSpPr>
            <p:spPr>
              <a:xfrm>
                <a:off x="3295080" y="2721240"/>
                <a:ext cx="1019160" cy="425880"/>
              </a:xfrm>
              <a:prstGeom prst="roundRect">
                <a:avLst>
                  <a:gd name="adj" fmla="val 16667"/>
                </a:avLst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43040" indent="-285840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92" name="Rounded Rectangle 14"/>
              <p:cNvSpPr/>
              <p:nvPr/>
            </p:nvSpPr>
            <p:spPr>
              <a:xfrm>
                <a:off x="3337560" y="3413880"/>
                <a:ext cx="891720" cy="372600"/>
              </a:xfrm>
              <a:prstGeom prst="roundRect">
                <a:avLst>
                  <a:gd name="adj" fmla="val 16667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43040" indent="-285840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93" name="Rounded Rectangle 15"/>
              <p:cNvSpPr/>
              <p:nvPr/>
            </p:nvSpPr>
            <p:spPr>
              <a:xfrm>
                <a:off x="3337560" y="4053240"/>
                <a:ext cx="891720" cy="372600"/>
              </a:xfrm>
              <a:prstGeom prst="roundRect">
                <a:avLst>
                  <a:gd name="adj" fmla="val 16667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43040" indent="-285840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94" name="Rounded Rectangle 16"/>
              <p:cNvSpPr/>
              <p:nvPr/>
            </p:nvSpPr>
            <p:spPr>
              <a:xfrm>
                <a:off x="789120" y="3360600"/>
                <a:ext cx="891720" cy="372600"/>
              </a:xfrm>
              <a:prstGeom prst="roundRect">
                <a:avLst>
                  <a:gd name="adj" fmla="val 16667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43040" indent="-285840"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  <p:sp>
            <p:nvSpPr>
              <p:cNvPr id="595" name="Rounded Rectangle 17"/>
              <p:cNvSpPr/>
              <p:nvPr/>
            </p:nvSpPr>
            <p:spPr>
              <a:xfrm>
                <a:off x="789120" y="4053240"/>
                <a:ext cx="891720" cy="372600"/>
              </a:xfrm>
              <a:prstGeom prst="roundRect">
                <a:avLst>
                  <a:gd name="adj" fmla="val 16667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43040" indent="-285840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sp>
          <p:nvSpPr>
            <p:cNvPr id="596" name="TextBox 32"/>
            <p:cNvSpPr/>
            <p:nvPr/>
          </p:nvSpPr>
          <p:spPr>
            <a:xfrm>
              <a:off x="779760" y="2188800"/>
              <a:ext cx="106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Encoder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97" name="TextBox 33"/>
            <p:cNvSpPr/>
            <p:nvPr/>
          </p:nvSpPr>
          <p:spPr>
            <a:xfrm>
              <a:off x="779760" y="5167800"/>
              <a:ext cx="106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Encoder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98" name="TextBox 34"/>
            <p:cNvSpPr/>
            <p:nvPr/>
          </p:nvSpPr>
          <p:spPr>
            <a:xfrm>
              <a:off x="879840" y="332172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Motor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99" name="TextBox 35"/>
            <p:cNvSpPr/>
            <p:nvPr/>
          </p:nvSpPr>
          <p:spPr>
            <a:xfrm>
              <a:off x="879840" y="401472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Motor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0" name="TextBox 36"/>
            <p:cNvSpPr/>
            <p:nvPr/>
          </p:nvSpPr>
          <p:spPr>
            <a:xfrm>
              <a:off x="3421080" y="339120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Motor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1" name="TextBox 37"/>
            <p:cNvSpPr/>
            <p:nvPr/>
          </p:nvSpPr>
          <p:spPr>
            <a:xfrm>
              <a:off x="3421080" y="405936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Motor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2" name="TextBox 38"/>
            <p:cNvSpPr/>
            <p:nvPr/>
          </p:nvSpPr>
          <p:spPr>
            <a:xfrm>
              <a:off x="859680" y="269820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Wheel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3" name="TextBox 39"/>
            <p:cNvSpPr/>
            <p:nvPr/>
          </p:nvSpPr>
          <p:spPr>
            <a:xfrm>
              <a:off x="844560" y="461376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Wheel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4" name="TextBox 40"/>
            <p:cNvSpPr/>
            <p:nvPr/>
          </p:nvSpPr>
          <p:spPr>
            <a:xfrm>
              <a:off x="3441240" y="274284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Wheel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5" name="TextBox 41"/>
            <p:cNvSpPr/>
            <p:nvPr/>
          </p:nvSpPr>
          <p:spPr>
            <a:xfrm>
              <a:off x="3441240" y="461376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Wheel</a:t>
              </a: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606" name="Picture 33" descr="VEX Traction Control 013B.jpg"/>
          <p:cNvPicPr/>
          <p:nvPr/>
        </p:nvPicPr>
        <p:blipFill>
          <a:blip r:embed="rId1"/>
          <a:stretch/>
        </p:blipFill>
        <p:spPr>
          <a:xfrm>
            <a:off x="4952880" y="2057400"/>
            <a:ext cx="3778200" cy="3749760"/>
          </a:xfrm>
          <a:prstGeom prst="rect">
            <a:avLst/>
          </a:prstGeom>
          <a:ln w="0">
            <a:noFill/>
          </a:ln>
        </p:spPr>
      </p:pic>
      <p:sp>
        <p:nvSpPr>
          <p:cNvPr id="607" name="TextBox 35"/>
          <p:cNvSpPr/>
          <p:nvPr/>
        </p:nvSpPr>
        <p:spPr>
          <a:xfrm>
            <a:off x="5755320" y="1600200"/>
            <a:ext cx="247572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Trebuchet MS"/>
              </a:rPr>
              <a:t>Polulu Ball Caster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TextBox 37"/>
          <p:cNvSpPr/>
          <p:nvPr/>
        </p:nvSpPr>
        <p:spPr>
          <a:xfrm>
            <a:off x="6589080" y="5867280"/>
            <a:ext cx="235260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Trebuchet MS"/>
              </a:rPr>
              <a:t>VEX Omni Whe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TextBox 38"/>
          <p:cNvSpPr/>
          <p:nvPr/>
        </p:nvSpPr>
        <p:spPr>
          <a:xfrm>
            <a:off x="4557960" y="2819520"/>
            <a:ext cx="155700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Trebuchet MS"/>
              </a:rPr>
              <a:t>VEX Whe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0" name="TextBox 39"/>
          <p:cNvSpPr/>
          <p:nvPr/>
        </p:nvSpPr>
        <p:spPr>
          <a:xfrm>
            <a:off x="7203600" y="2743200"/>
            <a:ext cx="186948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Trebuchet MS"/>
              </a:rPr>
              <a:t>Acetal Whe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cxnSp>
        <p:nvCxnSpPr>
          <p:cNvPr id="611" name="Straight Arrow Connector 41"/>
          <p:cNvCxnSpPr>
            <a:stCxn id="609" idx="2"/>
          </p:cNvCxnSpPr>
          <p:nvPr/>
        </p:nvCxnSpPr>
        <p:spPr>
          <a:xfrm>
            <a:off x="5335560" y="3249720"/>
            <a:ext cx="380160" cy="637200"/>
          </a:xfrm>
          <a:prstGeom prst="straightConnector1">
            <a:avLst/>
          </a:prstGeom>
          <a:ln w="3816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612" name="Straight Arrow Connector 43"/>
          <p:cNvCxnSpPr/>
          <p:nvPr/>
        </p:nvCxnSpPr>
        <p:spPr>
          <a:xfrm>
            <a:off x="6248520" y="2057400"/>
            <a:ext cx="380160" cy="637200"/>
          </a:xfrm>
          <a:prstGeom prst="straightConnector1">
            <a:avLst/>
          </a:prstGeom>
          <a:ln w="3816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613" name="Straight Arrow Connector 44"/>
          <p:cNvCxnSpPr/>
          <p:nvPr/>
        </p:nvCxnSpPr>
        <p:spPr>
          <a:xfrm flipH="1">
            <a:off x="6856200" y="2971800"/>
            <a:ext cx="535680" cy="1246680"/>
          </a:xfrm>
          <a:prstGeom prst="straightConnector1">
            <a:avLst/>
          </a:prstGeom>
          <a:ln w="3816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614" name="Straight Arrow Connector 45"/>
          <p:cNvCxnSpPr/>
          <p:nvPr/>
        </p:nvCxnSpPr>
        <p:spPr>
          <a:xfrm flipV="1">
            <a:off x="7467480" y="5258520"/>
            <a:ext cx="154800" cy="685080"/>
          </a:xfrm>
          <a:prstGeom prst="straightConnector1">
            <a:avLst/>
          </a:prstGeom>
          <a:ln w="38160">
            <a:solidFill>
              <a:srgbClr val="ffff1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4:04:54Z</dcterms:created>
  <dc:creator>Marc Bryan Center</dc:creator>
  <dc:description>Version 5 - PI Control Test Cases created and populated</dc:description>
  <cp:keywords>PI Control</cp:keywords>
  <dc:language>en-US</dc:language>
  <cp:lastModifiedBy>Marc B Center</cp:lastModifiedBy>
  <dcterms:modified xsi:type="dcterms:W3CDTF">2009-04-08T15:28:31Z</dcterms:modified>
  <cp:revision>98</cp:revision>
  <dc:subject>2009 FIRST Atlanta Conference Presentation</dc:subject>
  <dc:title>PI Control, using VEX and EasyC Pro Platform, for high school students and coaches</dc:title>
</cp:coreProperties>
</file>